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chimes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5CFC-832D-456E-A392-61E6B7F7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F32-BE3F-486E-854D-9D85C231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0D312B-1522-4016-A9DB-A3699AEC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EFFF4-C1EC-448D-B430-D5BF1A69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90681-86F5-4C15-AFD4-94A696BF3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17174-2A91-4762-88D2-AC250F6C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40483-FAD3-4AD4-93AC-06BE1C9B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EE7795-2E54-4B91-8BE1-AB9196975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FE9CF3-E531-4144-84BF-9F37354A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639822-4D63-4EFD-8791-5B6AFB8E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41DA5A-E9FE-423F-BA30-FCAC5DD4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64851-B4E9-4FDF-AAE4-84298DDD6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3BC-31AA-4188-B4AF-8E1ED758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6402E-D778-4CE7-86A1-EECAA3CEE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D708F-F501-4EA2-AB5D-90D47839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1D50E4-3A40-40BF-98E3-5BA639231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6796BF-BC9D-4F61-AC1D-8D6DEDCE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3A79A4-BB07-43CA-B58A-3F22C98DA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605E7E-ACE8-418D-A54B-B168CCB21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307A5-911C-4C36-AE94-A724819D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E2A00E-BA05-4405-B81B-4A5EBA1A0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8094B-A11B-4C29-9496-4614588E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312F6-5976-4926-A4C3-346E9D80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F076-6B62-44FE-9753-F3ECFD774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B9F6C6-3CD9-4968-8D2F-CA871A495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143E1E-C711-4C97-9EA5-78EADC4C9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1516F-21D7-46DE-B9CF-F625224AE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221C45-C62D-49FE-82ED-F3418864C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4EC3E3-C13F-4365-97BD-0F985F3C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BD36A4-903A-4E5B-B8A8-9DFA56F3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C5B5A8-F024-4C51-ABF4-E383D1E16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D21A2C-A8D2-4D89-9FA8-DE5C7FF7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14301C-FBC2-4C3D-AA0D-9D47FA1F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46E0A2-6486-4373-B2A2-D11F5E0A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C69FA-4E7E-4A1F-9ED8-EBEB08FAF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BF7F86-4C55-4DDD-A5A6-22425FE0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B09966-391B-45C5-AE09-655C2082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A1B3C5-5F64-46FE-A0F1-DC48642EC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3C341F-C0E6-4CD9-945D-1B386FF6A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AC0BD-1261-4772-9ACA-7A31D627F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748408-BB2D-47BE-B98E-EF207709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68794-DA0A-4011-9D6A-8B963D463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7A3159-00B0-4273-805D-B7C6B4CD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368E8-953B-4220-8D55-CDEB62C6D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7D046-375E-465D-B7DD-FFD560D2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A7703-71D2-4C75-ADAE-F1BDD3D8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4717A-8542-4540-9D61-ABE62C1C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24CA44-7DFE-419A-9D06-4347A720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212CF8-573E-4DD0-9E56-1CEA539E9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AAA4E-5D44-471C-AB5B-2F4F548CB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F6EEEC-84D2-4FF7-8596-487D95A4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6119-E862-43C0-9C4E-E0713F2E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23AA-BB66-473F-AA11-69E837EE4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A0CFD-BF01-4269-A495-2FC50A8E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842AD-5D0E-468E-B067-87DBCA9F3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1C400-8AA5-4CEF-911C-016FBDB3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138D-9D38-44EE-859F-7B662B10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F525C-076E-4D0D-A681-78818A39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9576-0AD7-4FAB-99FE-2C01DA11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282B-2559-46BC-BC98-519A7FF18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FAD6-2D58-46E2-B8CA-3BB5F18D6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5EC84-63EE-436D-9668-5B946F62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8422-0B92-42C1-9C57-F8D1363C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C1A16-9224-48D2-98D0-A2BECBE2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87C11-1DAE-4A5E-9E67-425C77C6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1B65C8-BB60-43B5-AE2F-502E2618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046DF-78AE-40B7-B676-8212C1BF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0898C-E7D8-4BE8-89D1-1F266D87F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DDE80C-B7CA-4E2E-8140-75399F1B2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F6C862-0AB9-47B9-9AAC-23D92D426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37292-2D23-4E8F-9D46-10461239D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123B5-6001-4FC0-A5FE-02E434FDD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0FC32B-C617-4DD0-9030-10B4A2E84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A0CC9-7FC4-4E3F-923E-EBAF14040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CE689-BF1D-48CF-83DE-4D035B1E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31D2A-091E-4E72-AF1C-5ACF55D3D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164101-7B6D-43ED-B3FA-6168D9087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D9F20-25A3-47CC-9CFD-34B987F0F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714B-959A-40AF-BA4B-E9C054C2D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BBC31-7142-4AA6-936A-2FD4F5154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F77AB-727E-4FDE-A605-9903CB2A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F655B-4619-412D-836E-EB888501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2E7C7-C5FA-48BB-8976-D4F3379AA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A36E13-1FD7-41D3-A98C-8EAC45BC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7BF55-EBE2-429A-939C-2685F745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0B6A7-94B4-4CD5-AD86-44B877CC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0D236-4ACC-4647-A50E-6891CBD90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F7422C-DD68-45F4-A785-AEF04AD9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EF2730-4E27-4EE6-A128-175F56804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21EB-F06A-4F3F-988B-7DFEE5BC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FCFFF3-099D-475C-B7BF-ACD08C6C9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4EE47-828C-48B4-B466-BBFF989A0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9BE4E4-65A7-4FDB-A01D-171E231E4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DFF8E8-061B-4C05-B40E-76F456A1A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AC3D2-3EC2-4771-96D6-8BB2034E2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EF06C9-4958-4CED-A9AB-612FB8FB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6B86B-EBAE-406C-97B5-2A24BCE3B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17E7E-FAC4-4540-A7E6-56A4BF5A8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A259E9-16F6-4A38-83FA-B3F67FB6C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AB9FD2-444D-406F-8EAD-453711539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106-27B0-4906-AF42-FF8FFBFB9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76DCDF-9435-4320-9CF9-DA57F874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7B5D08-A4B0-4DB7-B82D-C782053C2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DDED3-DCA0-4860-92C3-35AD2509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3A48B3-680C-4E88-84C7-0F510AB0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1C7295-A757-4F71-8973-53CC043C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230E1-E026-4017-AEEE-0A1633D93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614312-8ED2-4534-BF2C-2D4417E7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C70A6-7F54-4AF2-9FA8-150890D1F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21698-C04D-46E2-98C4-4257C3B98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881E7-1EA9-43D9-AB8C-E174CB98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F055-ABBB-46FD-A2F6-BA358AFDC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D5680-45EF-4DD0-B64E-1DB59D8EB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58F499-83F6-401F-879A-B25673BE9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EBBBBB-BB55-4BCF-81FF-B320624DF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6C8270-5308-418C-8890-3AD0E4B71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E1E6C-58FF-40F6-9574-7902380B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B80BFB-727C-43B1-95A0-32C19E92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2897A2-82C5-4159-9817-16DCA677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6987EA-FED6-450D-A7FB-6126C441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C53FFD-8288-4476-889F-4A30AC551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C7660D-1084-4E89-AC8E-DAB6AA5C2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B9854-A328-4FAF-B6E7-E990768AF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B3489-282E-46CC-9DA8-B76D6B927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0FBCD-8BC0-4F38-A7FA-C6B6B0D31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1C5B5-981D-45CF-A594-2A03EAFBD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75EC9E-5316-40B5-9AD1-A4263D7E0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40CC9E-8EDC-4608-BD20-3BDD45FA7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52C2D3-6CED-43DC-8847-C5DB8E1E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CFF3B-9CA9-4091-A162-9A92C573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1F20F-20F1-49E3-A516-8A1C4E084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93F62D-6B4A-4F46-BF87-2B8701011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A7282-0C71-4649-A6A3-0B9812D5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E68E-0C81-4B9D-B255-1D882818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75347-4BA8-4FA6-B3FD-79B02FAE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E176C4-3335-49BB-8D19-DBEB2703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E60EF7-E164-43A8-A35B-7BDCD0B72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9E935F-643A-4811-811B-9017F01E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C1C1FA-109E-48F0-BF63-FEA2FD827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51BBA-2B13-423F-9005-27725981B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3D58E-A269-4F19-89F7-01EB61522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70986-F9F3-49E0-9AE2-A4272781C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85BA84-ADB7-4DC2-ADB5-A17E6F2C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38EE8-F2D4-4BB5-88F2-8A2EA018D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E8F0-2B5D-4549-972C-7A95033B84F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6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27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29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31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8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9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30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38B3-6CB5-4F04-A487-BBC05BEEFE1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474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5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476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8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5F99E-CEEC-459F-97AA-7AE21AD27E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52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52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4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5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1AAF-C7CF-4178-BAEE-CA72FA392D6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C6CF5-147E-4401-8E54-27B59E386E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C307-0A1F-46A4-9A94-96A93A3FFA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45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47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E3B3-749A-4E43-B30B-75527E57DA6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1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92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94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13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 type="ftr" idx="14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 type="sldNum" idx="15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00E3-B348-429E-B8EE-FE31058198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39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41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3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6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7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8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1221-CDEF-4056-8DBB-96370249974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286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288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19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0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F5727-D283-4139-88AB-6E548D622C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2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33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35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7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2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3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4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1836-9E6C-48CF-B7CF-DC2844B1B85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380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82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84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5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6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7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1E1A-487A-4439-979D-296DE30DE41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330033"/>
                </a:solidFill>
                <a:latin typeface="Times New Roman"/>
              </a:rPr>
              <a:t>Le  FUTUR  SIMPLE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SF 1D  Unité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 verbes irrégulier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611280" y="1557360"/>
            <a:ext cx="853272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Verb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adical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conjugai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VENI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iendr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je vi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MOURI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ourr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u mour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COURIR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urr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l cour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NVOYE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nverr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us enver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CHETE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hèter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ous achète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EVE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lèver-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les lève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 MEMORISEZ CES 16 RADICAUX!!!!!*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5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5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5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5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</a:rPr>
              <a:t>FUTUR  SI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9786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mplétez les phrases avec la bonne for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u FUTUR SI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Je (jouer)…au foot au parc ce so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joue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us (aller) … à la fête dem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i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es filles (finir) … la leçon de da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ini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Dalton (avoir) … un bon match de hock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5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5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5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5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5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5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1000" fill="hold"/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 fill="hold"/>
                                        <p:tgtEl>
                                          <p:spTgt spid="5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5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1" lang="es-ES_tradnl" sz="4200" spc="-1" strike="noStrike">
                <a:solidFill>
                  <a:srgbClr val="ff0000"/>
                </a:solidFill>
                <a:latin typeface="Times New Roman"/>
              </a:rPr>
              <a:t>FUTUR  SI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aron et Aaron (gagner) … leur mat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gagner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ous (voir) … un bon film au cin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verr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u ne (faire) … pas les devo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fe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Je (manger) … des frites et un hot do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manger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5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10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5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1000" fill="hold"/>
                                        <p:tgtEl>
                                          <p:spTgt spid="5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1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5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10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1000" fill="hold"/>
                                        <p:tgtEl>
                                          <p:spTgt spid="5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 fill="hold"/>
                                        <p:tgtEl>
                                          <p:spTgt spid="5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10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1000" fill="hold"/>
                                        <p:tgtEl>
                                          <p:spTgt spid="5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00"/>
                </a:solidFill>
                <a:latin typeface="Times New Roman"/>
              </a:rPr>
              <a:t>           </a:t>
            </a:r>
            <a:r>
              <a:rPr b="1" lang="es-ES_tradnl" sz="4200" spc="-1" strike="noStrike">
                <a:solidFill>
                  <a:srgbClr val="ff0000"/>
                </a:solidFill>
                <a:latin typeface="Times New Roman"/>
              </a:rPr>
              <a:t>FUTUR  SI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us (être) … très fatigués après la fê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se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10. On (pouvoir) … rester à la ma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pour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 fill="hold"/>
                                        <p:tgtEl>
                                          <p:spTgt spid="5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1000" fill="hold"/>
                                        <p:tgtEl>
                                          <p:spTgt spid="5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1000" fill="hold"/>
                                        <p:tgtEl>
                                          <p:spTgt spid="5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5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ce </a:t>
            </a:r>
            <a:r>
              <a:rPr b="0" lang="en-US" sz="4200" spc="-1" strike="noStrike">
                <a:solidFill>
                  <a:srgbClr val="330033"/>
                </a:solidFill>
                <a:latin typeface="Wingdings"/>
                <a:ea typeface="Wingdings"/>
              </a:rPr>
              <a:t>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Mettez les phrases au futur simple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réfléchis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us réfléchir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par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 parle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ont enten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s entendr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 v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 vien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s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e sau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le a d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le d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avez voul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601"/>
              </a:spcBef>
              <a:buClr>
                <a:srgbClr val="cccc99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ous voudr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3"/>
          <p:cNvSpPr/>
          <p:nvPr/>
        </p:nvSpPr>
        <p:spPr>
          <a:xfrm>
            <a:off x="5003640" y="4581360"/>
            <a:ext cx="3816360" cy="2014200"/>
          </a:xfrm>
          <a:prstGeom prst="rect">
            <a:avLst/>
          </a:prstGeom>
          <a:noFill/>
          <a:ln w="76320">
            <a:solidFill>
              <a:srgbClr val="ff1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l est l’infinitif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-ce un verbe régulier ou irréguli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jugue le verbe au futur simp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3" dur="750"/>
                                        <p:tgtEl>
                                          <p:spTgt spid="5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8" dur="750"/>
                                        <p:tgtEl>
                                          <p:spTgt spid="5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3" dur="750"/>
                                        <p:tgtEl>
                                          <p:spTgt spid="5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48" dur="750"/>
                                        <p:tgtEl>
                                          <p:spTgt spid="5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3" dur="750"/>
                                        <p:tgtEl>
                                          <p:spTgt spid="5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58" dur="750"/>
                                        <p:tgtEl>
                                          <p:spTgt spid="5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3" dur="750"/>
                                        <p:tgtEl>
                                          <p:spTgt spid="5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68" dur="750"/>
                                        <p:tgtEl>
                                          <p:spTgt spid="5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3" dur="75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78" dur="750"/>
                                        <p:tgtEl>
                                          <p:spTgt spid="5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3" dur="75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88" dur="750"/>
                                        <p:tgtEl>
                                          <p:spTgt spid="5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3" dur="750"/>
                                        <p:tgtEl>
                                          <p:spTgt spid="5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98" dur="750"/>
                                        <p:tgtEl>
                                          <p:spTgt spid="5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Exercice 2 – à la négative, s.v.p.!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395280" y="1483920"/>
            <a:ext cx="829152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us réfléchir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u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éfléchiron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a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u parle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u ne parleras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s entendr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s n’entendront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 viend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ne viendra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e saura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e ne saurai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le di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le ne dira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ous voudr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13600" indent="-457560"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us ne voudrez p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560" indent="-45756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8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6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4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2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0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8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6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2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7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7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7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0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9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9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9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98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3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4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09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10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1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12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3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14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5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16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3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3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34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0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5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6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7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8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49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0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2" dur="41" fill="hold">
                                          <p:stCondLst>
                                            <p:cond delay="459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épondez aux questions suivantes.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914400" y="14126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 feras-tu demain so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l cours prendras-tu l’année procha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ec qui sortiras-tu vendredi so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and finiras-tu les devoi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À quelle heure regarderas-tu la tél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75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75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75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750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75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750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3" dur="750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4" dur="75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750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0" dur="750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75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750" fill="hold"/>
                                        <p:tgtEl>
                                          <p:spTgt spid="6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4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750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750" fill="hold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750" fill="hold"/>
                                        <p:tgtEl>
                                          <p:spTgt spid="6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Time Indicators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Demai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(tomorro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Ap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la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 so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onigh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et après-mid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his afterno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su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af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lus tar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later 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endant les vacanc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during the holiday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e week-end procha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ext week-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’année prochai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Next ye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nodeType="clickEffect" fill="hold">
                      <p:stCondLst>
                        <p:cond delay="indefinite"/>
                      </p:stCondLst>
                      <p:childTnLst>
                        <p:par>
                          <p:cTn id="8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6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nodeType="clickEffect" fill="hold">
                      <p:stCondLst>
                        <p:cond delay="indefinite"/>
                      </p:stCondLst>
                      <p:childTnLst>
                        <p:par>
                          <p:cTn id="9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7" dur="1000"/>
                                        <p:tgtEl>
                                          <p:spTgt spid="6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5" dur="1000"/>
                                        <p:tgtEl>
                                          <p:spTgt spid="6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nodeType="clickEffect" fill="hold">
                      <p:stCondLst>
                        <p:cond delay="indefinite"/>
                      </p:stCondLst>
                      <p:childTnLst>
                        <p:par>
                          <p:cTn id="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1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1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2" dur="1000" fill="hold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6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nodeType="clickEffect" fill="hold">
                      <p:stCondLst>
                        <p:cond delay="indefinite"/>
                      </p:stCondLst>
                      <p:childTnLst>
                        <p:par>
                          <p:cTn id="9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1000" fill="hold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1" dur="1000"/>
                                        <p:tgtEl>
                                          <p:spTgt spid="6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6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1000" fill="hold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7" dur="1000"/>
                                        <p:tgtEl>
                                          <p:spTgt spid="6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nodeType="clickEffect" fill="hold">
                      <p:stCondLst>
                        <p:cond delay="indefinite"/>
                      </p:stCondLst>
                      <p:childTnLst>
                        <p:par>
                          <p:cTn id="9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1000"/>
                                        <p:tgtEl>
                                          <p:spTgt spid="6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nodeType="clickEffect" fill="hold">
                      <p:stCondLst>
                        <p:cond delay="indefinite"/>
                      </p:stCondLst>
                      <p:childTnLst>
                        <p:par>
                          <p:cTn id="9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000" fill="hold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000" fill="hold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1000" fill="hold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1000"/>
                                        <p:tgtEl>
                                          <p:spTgt spid="6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914400" y="1599840"/>
            <a:ext cx="7772400" cy="45306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" descr=""/>
          <p:cNvPicPr/>
          <p:nvPr/>
        </p:nvPicPr>
        <p:blipFill>
          <a:blip r:embed="rId2"/>
          <a:stretch/>
        </p:blipFill>
        <p:spPr>
          <a:xfrm>
            <a:off x="108000" y="260280"/>
            <a:ext cx="8950320" cy="56898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  <p:sndAc>
      <p:stSnd>
        <p:snd r:embed="rId3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Formation du Futur Simpl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alement, on prend l’infinitif (c’est appellé le radical) d’un verbe et on ajoute les terminaisons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z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n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 fini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us fini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 fini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us fini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z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/Elle/On/Qui fini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/Elles fini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" dur="500"/>
                                        <p:tgtEl>
                                          <p:spTgt spid="5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0033"/>
                </a:solidFill>
                <a:latin typeface="Times New Roman"/>
              </a:rPr>
              <a:t>Comment former le FUTUR  SIMPLE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914040" y="1599840"/>
            <a:ext cx="7545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Régu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-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je parler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i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330033"/>
                </a:solidFill>
                <a:latin typeface="Arial"/>
              </a:rPr>
              <a:t>I will speak, tal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u parler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you (sing) will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l/elle parler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he/she will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us parler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ons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we will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vous parler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ez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you will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ls/elles parler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ont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they(f./m) will spea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2916000" y="1628640"/>
            <a:ext cx="16556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2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3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3000" fill="hold"/>
                                        <p:tgtEl>
                                          <p:spTgt spid="5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3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3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3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2000" fill="hold"/>
                                        <p:tgtEl>
                                          <p:spTgt spid="5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5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2000" fill="hold"/>
                                        <p:tgtEl>
                                          <p:spTgt spid="5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20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5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5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0033"/>
                </a:solidFill>
                <a:latin typeface="Times New Roman"/>
              </a:rPr>
              <a:t>Comment former le FUTUR  SIMPLE?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</a:t>
            </a: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égu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-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je fini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i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 will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u fini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ou (sing.) will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l/elle fini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e/she will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us fini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n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we will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ous fini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z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ou will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ls/elles fini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nt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hey (m./f.) will finis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2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2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5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2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2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2000" fill="hold"/>
                                        <p:tgtEl>
                                          <p:spTgt spid="5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20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2000" fill="hold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oilà les autres exemples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in, je parlerai à mon amie Am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nnée prochaine, ils vendront leur mai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deux jours, nous chanterons chez Blessed Trin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s choisiront leurs cours pour l’année prochai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Les verbes en </a:t>
            </a:r>
            <a:r>
              <a:rPr b="0" lang="fr-CA" sz="4200" spc="-1" strike="noStrike">
                <a:solidFill>
                  <a:srgbClr val="330033"/>
                </a:solidFill>
                <a:latin typeface="Times New Roman"/>
              </a:rPr>
              <a:t>« -re »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ur conjuguer les verbes en 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« -re », on enlève le « e » de l’infiniti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x: Prend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Je prendr</a:t>
            </a: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Tu prendr</a:t>
            </a:r>
            <a:r>
              <a:rPr b="0" lang="fr-CA" sz="2800" spc="-1" strike="noStrike" u="sng">
                <a:solidFill>
                  <a:srgbClr val="000000"/>
                </a:solidFill>
                <a:uFillTx/>
                <a:latin typeface="Arial"/>
              </a:rPr>
              <a:t>as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Multiply 3"/>
          <p:cNvSpPr/>
          <p:nvPr/>
        </p:nvSpPr>
        <p:spPr>
          <a:xfrm>
            <a:off x="2916360" y="3645000"/>
            <a:ext cx="431640" cy="360360"/>
          </a:xfrm>
          <a:custGeom>
            <a:avLst/>
            <a:gdLst/>
            <a:ahLst/>
            <a:rect l="l" t="t" r="r" b="b"/>
            <a:pathLst>
              <a:path w="431800" h="360363">
                <a:moveTo>
                  <a:pt x="76554" y="119087"/>
                </a:moveTo>
                <a:lnTo>
                  <a:pt x="130861" y="54014"/>
                </a:lnTo>
                <a:lnTo>
                  <a:pt x="215900" y="124984"/>
                </a:lnTo>
                <a:lnTo>
                  <a:pt x="300939" y="54014"/>
                </a:lnTo>
                <a:lnTo>
                  <a:pt x="355246" y="119087"/>
                </a:lnTo>
                <a:lnTo>
                  <a:pt x="282040" y="180182"/>
                </a:lnTo>
                <a:lnTo>
                  <a:pt x="355246" y="241276"/>
                </a:lnTo>
                <a:lnTo>
                  <a:pt x="300939" y="306349"/>
                </a:lnTo>
                <a:lnTo>
                  <a:pt x="215900" y="235379"/>
                </a:lnTo>
                <a:lnTo>
                  <a:pt x="130861" y="306349"/>
                </a:lnTo>
                <a:lnTo>
                  <a:pt x="76554" y="241276"/>
                </a:lnTo>
                <a:lnTo>
                  <a:pt x="149760" y="180182"/>
                </a:lnTo>
                <a:lnTo>
                  <a:pt x="76554" y="119087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9c994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9" dur="75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4" dur="75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9" dur="75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6" presetSubtype="16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75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33"/>
                </a:solidFill>
                <a:latin typeface="Times New Roman"/>
              </a:rPr>
              <a:t>Comment former le FUTUR  SIMPLE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Réguli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-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je v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i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 will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u v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ou (sing.) will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l/elle v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e/she will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nous v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n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we will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vous v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ez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you will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ls/elles vendr</a:t>
            </a: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ont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they (m./f.) will s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1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6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2000" fill="hold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2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2000" fill="hold"/>
                                        <p:tgtEl>
                                          <p:spTgt spid="5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5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20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5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20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2000" fill="hold"/>
                                        <p:tgtEl>
                                          <p:spTgt spid="5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5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0033"/>
                </a:solidFill>
                <a:latin typeface="Times New Roman"/>
              </a:rPr>
              <a:t>Les verbes irréguliers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Verbes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radica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jugai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VOI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u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’au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ÊTRE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e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u se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FAIRE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fe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l fe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LLE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us i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VOI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vr-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ous dev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POUVOI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our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les pour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o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VOULOI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oud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e voud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VOI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ver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u ver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SAVOI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sau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le sau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RECEVOIR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cevr-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nous recevr</a:t>
            </a: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  <p:sndAc>
      <p:stSnd>
        <p:snd r:embed="rId1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5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5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5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2T02:33:22Z</dcterms:created>
  <dc:creator>LOU soligo</dc:creator>
  <dc:description/>
  <dc:language>en-US</dc:language>
  <cp:lastModifiedBy>Biega, Sarah</cp:lastModifiedBy>
  <dcterms:modified xsi:type="dcterms:W3CDTF">2015-05-26T17:07:49Z</dcterms:modified>
  <cp:revision>26</cp:revision>
  <dc:subject/>
  <dc:title>Le  FUTUR  SIMPLE</dc:title>
</cp:coreProperties>
</file>